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01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44D49-6180-42C0-A7AA-DA85532EF61C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14B6-C48C-4D7A-9BF8-0C2C3D49D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55A0-CF99-4DC2-851F-021E2DDC1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AD43F4-3841-4C39-BE8D-FB3F1F161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A45AAB-EF3E-4EAC-BA5F-7D34FC8E0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9257E1-7F45-44B0-A40F-59864E523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547E78-6134-43A7-98BF-6E4331388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BC0870-AB13-4E66-A68C-CAA91D034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EAD672-A49E-4FFA-8584-2A114D101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B9E0C6-8895-4B53-ACC3-A0FCF61BE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13737C-879F-4216-A566-FA2C7A15C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CA9E4F-9BC4-4797-B160-8F7DF533F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9A3798-C8EE-48D3-8C51-72BDDC948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C43A-70F3-449B-805C-61770B6A4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093A57-64E8-45DD-B265-5FCB76F74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BB8DDF-065C-47AE-9F0F-26FF5FFB2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2B3649-A7A2-4C73-9D77-786931808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438824-E97D-4B89-9908-2D9B3E463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2AD757-E73A-4895-B8F9-5F425F1C8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3B2019-484F-4192-8062-E0CD551A1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EDB28F-94BA-44C1-8322-5A11D8972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1C9D5C-AA75-4542-8A18-CF6239789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2873EA-F9F3-4B84-B1AE-D44C12F28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B0527D-3B52-4AE2-8BAA-855E3F514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3BAB-51D7-4D1F-9677-2E2ECA512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43F31F-917C-4621-B4A0-8AC372466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5CBF55-D426-4D21-AB3D-95D6F2AF9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0B128D-6CE3-41E0-A2E7-C7AD383ED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A99C5A-AE25-4C94-B159-DF5A060B8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C7A43B-10AF-416F-AD36-C7AE03F84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139362-C4E1-45E0-8F59-563F1DE71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A13BE7-BE57-498C-AA46-F8F975958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C36E2C-D5F1-4771-9A81-3D2E38895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279FFC-99EB-495D-AF30-D85580343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75FDEE-2301-4965-A822-FDEE23499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265D7-147A-4029-B04B-8C8ADAD81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EE4422-37B0-4547-B4CA-DBDD10EA5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EBE057-75AD-4CE5-BC3B-5041B476C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C983F6-AEEE-4FDC-A20B-1CE1C2B1B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A1381B-34F5-4E8D-A09E-934984A06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2EB68B-AA98-42D6-A317-92F757A50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1E72C5-480F-41D9-A060-266B0453C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397417-DF9C-4A7C-A7B0-333E9022F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05A61D-FBDA-432D-B333-5DA04D7C2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CB4BF2-0E16-4F60-BC50-D081388AF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1AFB0A-7FD6-4F8B-A523-7AA052CFD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5900F-F1AF-4533-84BE-11AD8BA18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8698B2-8B4A-46C0-8F3F-E8AECE53D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B83900-9140-4A9D-B967-73F20FAB8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A2AAA2-52F8-4E93-A83E-4E576EFF5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087674-C987-4D77-8FB6-336DA2D6F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AE4D87-7365-4FFC-A76D-4CAAB2E96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5706F54-CBAF-4A19-AD8E-B76DCDA32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AAF5F56-5B8F-4D40-B020-A6A89989C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B8294A8-2A25-4CB4-9996-15F01CEEF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1E1F7A8-1605-4DC0-B6B3-F6271E2DD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77F66CD-38ED-461E-95AB-B1DD4DDF6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2B30E-C104-424C-B155-F1C707F59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6B9B2A6-FDB0-4117-8275-BCCC678E5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5D72AF7-315C-4144-A2F9-E2C3E95FB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A3B055E-11F4-4A49-8B78-C00A4450E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0773081-C837-4C79-9679-F6B197973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F1A1265-8201-4F72-A700-D02A9F7B3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467085E-1661-4A28-A6E1-FBD7AADFC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57327D1-7058-4498-9C6D-4F6FCFB3F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230CC-A379-4FE6-A404-C25993003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A9CAD-8327-4FC3-AD4E-92213B073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4C354-73E2-40AE-8835-62DD0E731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25F0B-28C3-4AC6-B572-AF153C901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B386-811F-4DC8-ADC1-DC5CFDF9F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2DAC3-B1A0-4F21-AB54-9A2BA145C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7A733-55AB-4A04-ACBA-3BE11F3D3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B7B61-E0F7-4D0A-BCF2-448D7B3F4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1BF2C-9827-4092-A83B-5339EE958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20B11-E8E2-4292-A77A-60BC7CD9D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EEE393-D13B-47DD-8A5C-05EB10AD1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1F53C9-8DCF-49F3-A73B-870116E3E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995930-8EEC-4B0D-A656-6A06E4ED9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CBA202-2541-4CBD-A15E-278DEF9F0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2547DB-1B7E-490E-A7A8-AF43BAE50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615B-5AAC-4E6D-B0F0-0787D39E9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3B09FD-BF59-492D-B5C8-E096D1578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B83138-8212-461D-B594-7DBD5B097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24B322-62D1-4EB2-877C-85296D9A7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EAB45D-4947-4BCA-8BE2-E940A6F14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88844E-2116-48F5-B58F-BBB47220D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5C4672-7593-4E3F-AFF2-A8D103AA1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212D3C-CD8D-4D7A-B2B4-86BC745A2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8EBBA6-8A97-4508-945E-43246DC18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FC034F-23C9-4FF4-A0B5-7854148FB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0C7B4C-26E0-43E8-BEDB-0744F929E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A8A0-7A3E-4343-9AD8-C11A89835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75651E-966D-4953-89C3-EDB6CA008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72D565-CED2-443E-8D04-611015133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893CAE-24F9-48A4-8D05-A24AFCBFB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F96BB9-F081-46EB-B0F8-B1292A6E8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C59F80-6B3A-4999-9B31-05BA5A813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065711-D2B4-4815-AFE4-5CBD5399C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B3E8A8-ACB5-41DB-A523-2761F456C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22502B-4273-41B1-A06C-03869C1C3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B6A6DD-F783-428B-8106-43ADA0B6C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4AF37D-57FD-47F3-B0E9-C2C15BC80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9025-69B9-465A-AC4D-4897EB8DC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4CDB6D-9A5D-44D1-8C01-9C63B9250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094153-7FD3-4185-A9CF-9407E5B9B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AF01C5-0453-41CE-9333-B03E21B07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66FC28-F932-41BC-908D-514EBAF22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1EF2A7-BB7C-4DC4-BF8A-3A2CD0EEE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2B57CA-9B37-4B7C-AC71-324288927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158F30-946F-41CD-9C03-B00E08379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0D6046-E585-4A6F-8A28-C7DB99801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86F92C-0CBF-470D-875B-23D6E939E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AC139B-11BA-4254-9879-142D7CAB9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335E-9F0C-4DA0-A5F0-F3A34F80F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4A5C6A-F898-4979-8CA2-7819771AE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8FAD367-5923-4F14-8FCD-36F0387D0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9F5835F-674C-49C1-8A10-389592F53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145D58B-B3A6-4BD0-BD6B-E851EC67B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29F0C94-D9BD-4FF7-A4AD-722BBF9F2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C074D34-63DD-49E7-B9E4-3224DA3CB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BFC304A-DBB0-4F51-9046-12DB8F97B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125247A-3729-47BD-8CA2-46F7FBA87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B799403-B65A-461E-8974-2D9E226E8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E02CF7-B7E5-4A92-9EF8-82730FCC1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3F77-4D9A-4224-A406-CD7DEF064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086DD57-3D71-4A8F-A992-819506924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5EE5F7B-6524-4ECD-914F-D19A8EFB9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BE0443E-A254-4614-BAF4-2D9265CC4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D3CA52-E6D5-4E72-9439-B6B943EB8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99A24A-3E58-4F8D-AC9F-99E0AFC2A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288D76-A785-495A-8969-5DD2D3DBF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602EA1-2F3F-472E-AE85-94D219D34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50231E-C7D2-4D66-9467-48F2414B9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EBBA78-B60F-41CB-89CA-1F0BC93CD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0668D7-5645-4F2F-95B8-3FE9F0E8F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C1C8-3A38-4756-B7A7-01A3E4352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CC6E0F-72E1-4649-AB84-DB53CAB96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97221C-7EEE-4CE7-ACD2-6E434FB97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2E3A59-FA94-4040-9185-5A234BF18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AD63E8-DB2A-4D84-9F01-10911B46D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A65EE4-AA17-481E-A80E-80280DF11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160C2B-7678-40C3-B934-71C840348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725034-B2B7-4881-8233-5D11CBC67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82FF64-BCB7-423D-9C80-5C715DA77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5FB512-820C-41ED-A5CB-94D1CC33C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72710D-80BF-4B9D-9A05-AE118FFD9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48BC-77C4-4678-AF97-FA146BFC5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65AC4D-CB7A-403E-B151-94AD59A47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5EE872-E9AD-4C13-9195-F145CDE8F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2EAE98-16AF-4917-B307-EA7193BC4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817B7F-2002-4204-A6BB-AEBA688E9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CD83C6-41C8-45D0-ADE3-EBF174B20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EA716A-56E1-49F0-9779-640684856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8E1424-5728-41BA-AB56-0BEF3E051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2690D7-7E1E-42E2-9D01-89A5C68CC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334058-D0B8-44EA-BBCA-C5E5C4D15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9B010E-F21B-4672-B110-2C1B18800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B9775-523B-457C-8742-985BA7E8E6D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63F4F-F2F5-492F-A881-E35BD4D5965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77E96-64AC-4197-9DA6-30DCC6522FF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A691B-4757-4045-92F0-CC428B71EFC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E7208-BA09-4E18-95B6-7E899B62A59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202C5-9F33-4D32-8E1A-42649468497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ED48F-7167-4B5B-9F74-15C0159003B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17256-91D0-4E8B-B50B-1DAD45EEC6D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6B3CD-6064-4EC5-9B04-1EB1EE6B3FF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95023-6D9A-45D9-BD88-48206686C03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B7E93-50BA-41D3-8FAE-F13B2EBC426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5915B-26BD-4F7C-B144-E02734AB36A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93105-2C50-46C0-92BB-B055BD02A06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12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12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32236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487440" y="3316320"/>
            <a:ext cx="313380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861800" y="234468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표준화 검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5343480" y="3267000"/>
            <a:ext cx="29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표준화 검사의 이해 및 해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직사각형 45"/>
          <p:cNvSpPr/>
          <p:nvPr/>
        </p:nvSpPr>
        <p:spPr>
          <a:xfrm>
            <a:off x="5256360" y="4187880"/>
            <a:ext cx="265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표준화 검사에 대한 쟁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1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21239-0438-4B9B-B085-9DF160C6469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2" name="TextBox 9" descr=""/>
          <p:cNvPicPr/>
          <p:nvPr/>
        </p:nvPicPr>
        <p:blipFill>
          <a:blip r:embed="rId1"/>
          <a:stretch/>
        </p:blipFill>
        <p:spPr>
          <a:xfrm>
            <a:off x="5894280" y="506520"/>
            <a:ext cx="2884680" cy="590400"/>
          </a:xfrm>
          <a:prstGeom prst="rect">
            <a:avLst/>
          </a:prstGeom>
          <a:ln w="0">
            <a:noFill/>
          </a:ln>
        </p:spPr>
      </p:pic>
      <p:sp>
        <p:nvSpPr>
          <p:cNvPr id="783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012DC-8EB5-4112-B25C-FD6374C257D5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4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785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786" name="직사각형 14"/>
              <p:cNvSpPr/>
              <p:nvPr/>
            </p:nvSpPr>
            <p:spPr>
              <a:xfrm>
                <a:off x="1051920" y="138600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란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8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3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4" name="그룹 43"/>
          <p:cNvGrpSpPr/>
          <p:nvPr/>
        </p:nvGrpSpPr>
        <p:grpSpPr>
          <a:xfrm>
            <a:off x="571680" y="1876320"/>
            <a:ext cx="8072280" cy="3052800"/>
            <a:chOff x="571680" y="1876320"/>
            <a:chExt cx="8072280" cy="3052800"/>
          </a:xfrm>
        </p:grpSpPr>
        <p:pic>
          <p:nvPicPr>
            <p:cNvPr id="79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30528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6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79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8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9" name="직사각형 19"/>
            <p:cNvSpPr/>
            <p:nvPr/>
          </p:nvSpPr>
          <p:spPr>
            <a:xfrm>
              <a:off x="928800" y="199188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일한 조건에서 많은 수의 학생들을 대상으로 시행되고 동일한 절차에 따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채점되는 평가도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0" name="직사각형 16"/>
          <p:cNvSpPr/>
          <p:nvPr/>
        </p:nvSpPr>
        <p:spPr>
          <a:xfrm>
            <a:off x="928800" y="2994120"/>
            <a:ext cx="76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규준집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대표성을 띠는 개인들의 집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이러한 개인들의 표준화 점수를 가지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가 전국적 규준을 구성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1" name="타원 20"/>
          <p:cNvGrpSpPr/>
          <p:nvPr/>
        </p:nvGrpSpPr>
        <p:grpSpPr>
          <a:xfrm>
            <a:off x="835200" y="3170160"/>
            <a:ext cx="225360" cy="225360"/>
            <a:chOff x="835200" y="3170160"/>
            <a:chExt cx="225360" cy="225360"/>
          </a:xfrm>
        </p:grpSpPr>
        <p:pic>
          <p:nvPicPr>
            <p:cNvPr id="802" name="타원 20" descr=""/>
            <p:cNvPicPr/>
            <p:nvPr/>
          </p:nvPicPr>
          <p:blipFill>
            <a:blip r:embed="rId5"/>
            <a:stretch/>
          </p:blipFill>
          <p:spPr>
            <a:xfrm>
              <a:off x="835200" y="317016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3" name=""/>
            <p:cNvSpPr/>
            <p:nvPr/>
          </p:nvSpPr>
          <p:spPr>
            <a:xfrm rot="10800000">
              <a:off x="915840" y="322704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4" name="직사각형 21"/>
          <p:cNvSpPr/>
          <p:nvPr/>
        </p:nvSpPr>
        <p:spPr>
          <a:xfrm>
            <a:off x="928800" y="399240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국규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국에서 선발된 대표 학생들이 표준화 검사에서 획득한 점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5" name="타원 22"/>
          <p:cNvGrpSpPr/>
          <p:nvPr/>
        </p:nvGrpSpPr>
        <p:grpSpPr>
          <a:xfrm>
            <a:off x="835200" y="4170240"/>
            <a:ext cx="225360" cy="219240"/>
            <a:chOff x="835200" y="4170240"/>
            <a:chExt cx="225360" cy="219240"/>
          </a:xfrm>
        </p:grpSpPr>
        <p:pic>
          <p:nvPicPr>
            <p:cNvPr id="806" name="타원 22" descr=""/>
            <p:cNvPicPr/>
            <p:nvPr/>
          </p:nvPicPr>
          <p:blipFill>
            <a:blip r:embed="rId6"/>
            <a:stretch/>
          </p:blipFill>
          <p:spPr>
            <a:xfrm>
              <a:off x="835200" y="4170240"/>
              <a:ext cx="225360" cy="2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7" name=""/>
            <p:cNvSpPr/>
            <p:nvPr/>
          </p:nvSpPr>
          <p:spPr>
            <a:xfrm rot="10800000">
              <a:off x="915840" y="422712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8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809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9110D-9E64-4EEB-86BF-3445D5654B5C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0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11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12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의 기능 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1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1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9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" name="그룹 43"/>
          <p:cNvGrpSpPr/>
          <p:nvPr/>
        </p:nvGrpSpPr>
        <p:grpSpPr>
          <a:xfrm>
            <a:off x="571680" y="1876320"/>
            <a:ext cx="8072280" cy="3267360"/>
            <a:chOff x="571680" y="1876320"/>
            <a:chExt cx="8072280" cy="3267360"/>
          </a:xfrm>
        </p:grpSpPr>
        <p:pic>
          <p:nvPicPr>
            <p:cNvPr id="821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32673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22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23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4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5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 평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진척에 대한 객관적인 정보제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6" name="직사각형 16"/>
          <p:cNvSpPr/>
          <p:nvPr/>
        </p:nvSpPr>
        <p:spPr>
          <a:xfrm>
            <a:off x="928800" y="25718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진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장단점 진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7" name="타원 20"/>
          <p:cNvGrpSpPr/>
          <p:nvPr/>
        </p:nvGrpSpPr>
        <p:grpSpPr>
          <a:xfrm>
            <a:off x="835200" y="2743200"/>
            <a:ext cx="225360" cy="225360"/>
            <a:chOff x="835200" y="2743200"/>
            <a:chExt cx="225360" cy="225360"/>
          </a:xfrm>
        </p:grpSpPr>
        <p:pic>
          <p:nvPicPr>
            <p:cNvPr id="828" name="타원 20" descr=""/>
            <p:cNvPicPr/>
            <p:nvPr/>
          </p:nvPicPr>
          <p:blipFill>
            <a:blip r:embed="rId5"/>
            <a:stretch/>
          </p:blipFill>
          <p:spPr>
            <a:xfrm>
              <a:off x="835200" y="2743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9" name=""/>
            <p:cNvSpPr/>
            <p:nvPr/>
          </p:nvSpPr>
          <p:spPr>
            <a:xfrm rot="10800000">
              <a:off x="915840" y="2798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0" name="직사각형 21"/>
          <p:cNvSpPr/>
          <p:nvPr/>
        </p:nvSpPr>
        <p:spPr>
          <a:xfrm>
            <a:off x="928800" y="37148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프로그램 평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 프로그램에 대한 정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1" name="타원 22"/>
          <p:cNvGrpSpPr/>
          <p:nvPr/>
        </p:nvGrpSpPr>
        <p:grpSpPr>
          <a:xfrm>
            <a:off x="858960" y="3889440"/>
            <a:ext cx="226800" cy="225360"/>
            <a:chOff x="858960" y="3889440"/>
            <a:chExt cx="226800" cy="225360"/>
          </a:xfrm>
        </p:grpSpPr>
        <p:pic>
          <p:nvPicPr>
            <p:cNvPr id="832" name="타원 22" descr=""/>
            <p:cNvPicPr/>
            <p:nvPr/>
          </p:nvPicPr>
          <p:blipFill>
            <a:blip r:embed="rId6"/>
            <a:stretch/>
          </p:blipFill>
          <p:spPr>
            <a:xfrm>
              <a:off x="858960" y="388944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3" name=""/>
            <p:cNvSpPr/>
            <p:nvPr/>
          </p:nvSpPr>
          <p:spPr>
            <a:xfrm rot="10800000">
              <a:off x="942840" y="3941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4" name="직사각형 23"/>
          <p:cNvSpPr/>
          <p:nvPr/>
        </p:nvSpPr>
        <p:spPr>
          <a:xfrm>
            <a:off x="928800" y="31352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선발과 배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별한 목적이 수업에 선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5" name="타원 25"/>
          <p:cNvGrpSpPr/>
          <p:nvPr/>
        </p:nvGrpSpPr>
        <p:grpSpPr>
          <a:xfrm>
            <a:off x="835200" y="3316320"/>
            <a:ext cx="225360" cy="225360"/>
            <a:chOff x="835200" y="3316320"/>
            <a:chExt cx="225360" cy="225360"/>
          </a:xfrm>
        </p:grpSpPr>
        <p:pic>
          <p:nvPicPr>
            <p:cNvPr id="836" name="타원 25" descr=""/>
            <p:cNvPicPr/>
            <p:nvPr/>
          </p:nvPicPr>
          <p:blipFill>
            <a:blip r:embed="rId7"/>
            <a:stretch/>
          </p:blipFill>
          <p:spPr>
            <a:xfrm>
              <a:off x="835200" y="331632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7" name=""/>
            <p:cNvSpPr/>
            <p:nvPr/>
          </p:nvSpPr>
          <p:spPr>
            <a:xfrm rot="10800000">
              <a:off x="915840" y="33699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8" name="직사각형 26"/>
          <p:cNvSpPr/>
          <p:nvPr/>
        </p:nvSpPr>
        <p:spPr>
          <a:xfrm>
            <a:off x="928800" y="42782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 성적에 대한 책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다른 지역의 학교들의 상대적인 수행에 대한 정보제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9" name="타원 27"/>
          <p:cNvGrpSpPr/>
          <p:nvPr/>
        </p:nvGrpSpPr>
        <p:grpSpPr>
          <a:xfrm>
            <a:off x="858960" y="4456080"/>
            <a:ext cx="226800" cy="225360"/>
            <a:chOff x="858960" y="4456080"/>
            <a:chExt cx="226800" cy="225360"/>
          </a:xfrm>
        </p:grpSpPr>
        <p:pic>
          <p:nvPicPr>
            <p:cNvPr id="840" name="타원 27" descr=""/>
            <p:cNvPicPr/>
            <p:nvPr/>
          </p:nvPicPr>
          <p:blipFill>
            <a:blip r:embed="rId8"/>
            <a:stretch/>
          </p:blipFill>
          <p:spPr>
            <a:xfrm>
              <a:off x="858960" y="445608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1" name=""/>
            <p:cNvSpPr/>
            <p:nvPr/>
          </p:nvSpPr>
          <p:spPr>
            <a:xfrm rot="10800000">
              <a:off x="942840" y="45129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2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843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C9DC7-E9D3-4122-B09D-77AA676FAA0A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4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45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46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의 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5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3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4" name="그룹 43"/>
          <p:cNvGrpSpPr/>
          <p:nvPr/>
        </p:nvGrpSpPr>
        <p:grpSpPr>
          <a:xfrm>
            <a:off x="571680" y="1876320"/>
            <a:ext cx="8072280" cy="3838680"/>
            <a:chOff x="571680" y="1876320"/>
            <a:chExt cx="8072280" cy="3838680"/>
          </a:xfrm>
        </p:grpSpPr>
        <p:pic>
          <p:nvPicPr>
            <p:cNvPr id="85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3838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56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5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8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9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취도 검사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의 특정한 내용 영역에서 얼마나 많이 배웠는지 측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0" name="직사각형 16"/>
          <p:cNvSpPr/>
          <p:nvPr/>
        </p:nvSpPr>
        <p:spPr>
          <a:xfrm>
            <a:off x="928800" y="277812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진단검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한 기능영역에서 학생들의 장점과 단점을 상세히 설명해 주는 검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1" name="타원 20"/>
          <p:cNvGrpSpPr/>
          <p:nvPr/>
        </p:nvGrpSpPr>
        <p:grpSpPr>
          <a:xfrm>
            <a:off x="835200" y="2938320"/>
            <a:ext cx="225360" cy="225720"/>
            <a:chOff x="835200" y="2938320"/>
            <a:chExt cx="225360" cy="225720"/>
          </a:xfrm>
        </p:grpSpPr>
        <p:pic>
          <p:nvPicPr>
            <p:cNvPr id="862" name="타원 20" descr=""/>
            <p:cNvPicPr/>
            <p:nvPr/>
          </p:nvPicPr>
          <p:blipFill>
            <a:blip r:embed="rId5"/>
            <a:stretch/>
          </p:blipFill>
          <p:spPr>
            <a:xfrm>
              <a:off x="835200" y="2938320"/>
              <a:ext cx="22536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3" name=""/>
            <p:cNvSpPr/>
            <p:nvPr/>
          </p:nvSpPr>
          <p:spPr>
            <a:xfrm rot="10800000">
              <a:off x="915840" y="29937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4" name="직사각형 21"/>
          <p:cNvSpPr/>
          <p:nvPr/>
        </p:nvSpPr>
        <p:spPr>
          <a:xfrm>
            <a:off x="928800" y="4576680"/>
            <a:ext cx="76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성검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을 위한 잠재력을 예측하며 오랜 시간에 걸쳐 개발된 일반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을 측정하는 검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타원 22"/>
          <p:cNvGrpSpPr/>
          <p:nvPr/>
        </p:nvGrpSpPr>
        <p:grpSpPr>
          <a:xfrm>
            <a:off x="858960" y="4743360"/>
            <a:ext cx="226800" cy="225360"/>
            <a:chOff x="858960" y="4743360"/>
            <a:chExt cx="226800" cy="225360"/>
          </a:xfrm>
        </p:grpSpPr>
        <p:pic>
          <p:nvPicPr>
            <p:cNvPr id="866" name="타원 22" descr=""/>
            <p:cNvPicPr/>
            <p:nvPr/>
          </p:nvPicPr>
          <p:blipFill>
            <a:blip r:embed="rId6"/>
            <a:stretch/>
          </p:blipFill>
          <p:spPr>
            <a:xfrm>
              <a:off x="858960" y="474336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7" name=""/>
            <p:cNvSpPr/>
            <p:nvPr/>
          </p:nvSpPr>
          <p:spPr>
            <a:xfrm rot="10800000">
              <a:off x="942840" y="479916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8" name="직사각형 23"/>
          <p:cNvSpPr/>
          <p:nvPr/>
        </p:nvSpPr>
        <p:spPr>
          <a:xfrm>
            <a:off x="928800" y="3505320"/>
            <a:ext cx="76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능검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식을 습득할 수 있는 개인의 능력과 추상적인 것을 사고하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추론하는 능력과 새로운 문제를 해결할 수 있는 능력을 측정하는 검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9" name="타원 25"/>
          <p:cNvGrpSpPr/>
          <p:nvPr/>
        </p:nvGrpSpPr>
        <p:grpSpPr>
          <a:xfrm>
            <a:off x="835200" y="3724200"/>
            <a:ext cx="225360" cy="225360"/>
            <a:chOff x="835200" y="3724200"/>
            <a:chExt cx="225360" cy="225360"/>
          </a:xfrm>
        </p:grpSpPr>
        <p:pic>
          <p:nvPicPr>
            <p:cNvPr id="870" name="타원 25" descr=""/>
            <p:cNvPicPr/>
            <p:nvPr/>
          </p:nvPicPr>
          <p:blipFill>
            <a:blip r:embed="rId7"/>
            <a:stretch/>
          </p:blipFill>
          <p:spPr>
            <a:xfrm>
              <a:off x="835200" y="3724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1" name=""/>
            <p:cNvSpPr/>
            <p:nvPr/>
          </p:nvSpPr>
          <p:spPr>
            <a:xfrm rot="10800000">
              <a:off x="915840" y="378000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2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873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8C690-BFA2-4135-93B6-AF0A85E7A89E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4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75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76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7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8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83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4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88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86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8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8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9" name="직사각형 19"/>
            <p:cNvSpPr/>
            <p:nvPr/>
          </p:nvSpPr>
          <p:spPr>
            <a:xfrm>
              <a:off x="928800" y="1991880"/>
              <a:ext cx="766908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용타당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가르쳐진 내용을 대표할 수 있는 문항으로 구성되었는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자가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그 내용을 얼마나 이해하고 있는지를 측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험 내용과 교과과정의 목표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교해서 결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0" name="직사각형 16"/>
          <p:cNvSpPr/>
          <p:nvPr/>
        </p:nvSpPr>
        <p:spPr>
          <a:xfrm>
            <a:off x="928800" y="3429000"/>
            <a:ext cx="778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언타당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미래의 수행을 측정하는 검사의 능력에 대한 지표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화검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수와 성적간의 상관관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직사각형 21"/>
          <p:cNvSpPr/>
          <p:nvPr/>
        </p:nvSpPr>
        <p:spPr>
          <a:xfrm>
            <a:off x="928800" y="4446720"/>
            <a:ext cx="766908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구성타당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시험과 그 시험이 측정하려는 것 사이의 논리적 연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학능력시험의 문제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단어와 수에 대해 추상적인 사고를 할 수 있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을 측정으로 이상의 것들을 대학에서 다뤄야 할 과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2" name="타원 22"/>
          <p:cNvGrpSpPr/>
          <p:nvPr/>
        </p:nvGrpSpPr>
        <p:grpSpPr>
          <a:xfrm>
            <a:off x="858960" y="4651200"/>
            <a:ext cx="226800" cy="219240"/>
            <a:chOff x="858960" y="4651200"/>
            <a:chExt cx="226800" cy="219240"/>
          </a:xfrm>
        </p:grpSpPr>
        <p:pic>
          <p:nvPicPr>
            <p:cNvPr id="893" name="타원 22" descr=""/>
            <p:cNvPicPr/>
            <p:nvPr/>
          </p:nvPicPr>
          <p:blipFill>
            <a:blip r:embed="rId5"/>
            <a:stretch/>
          </p:blipFill>
          <p:spPr>
            <a:xfrm>
              <a:off x="858960" y="4651200"/>
              <a:ext cx="226800" cy="2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4" name=""/>
            <p:cNvSpPr/>
            <p:nvPr/>
          </p:nvSpPr>
          <p:spPr>
            <a:xfrm rot="10800000">
              <a:off x="942840" y="47080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5" name="타원 25"/>
          <p:cNvGrpSpPr/>
          <p:nvPr/>
        </p:nvGrpSpPr>
        <p:grpSpPr>
          <a:xfrm>
            <a:off x="835200" y="3602160"/>
            <a:ext cx="225360" cy="226800"/>
            <a:chOff x="835200" y="3602160"/>
            <a:chExt cx="225360" cy="226800"/>
          </a:xfrm>
        </p:grpSpPr>
        <p:pic>
          <p:nvPicPr>
            <p:cNvPr id="896" name="타원 25" descr=""/>
            <p:cNvPicPr/>
            <p:nvPr/>
          </p:nvPicPr>
          <p:blipFill>
            <a:blip r:embed="rId6"/>
            <a:stretch/>
          </p:blipFill>
          <p:spPr>
            <a:xfrm>
              <a:off x="835200" y="3602160"/>
              <a:ext cx="225360" cy="22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7" name=""/>
            <p:cNvSpPr/>
            <p:nvPr/>
          </p:nvSpPr>
          <p:spPr>
            <a:xfrm rot="10800000">
              <a:off x="915840" y="365616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8" name="직사각형 20"/>
          <p:cNvSpPr/>
          <p:nvPr/>
        </p:nvSpPr>
        <p:spPr>
          <a:xfrm>
            <a:off x="928800" y="600552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**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타당도와 신뢰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9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900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5BCB2-555C-4DEA-9A3F-D3E66FA23BC1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1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02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03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사의 역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0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0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1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12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913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914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15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6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표준화 검사 점수가 타당한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이 배운 것을 정확히 반영하는지 확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7" name="직사각형 16"/>
          <p:cNvSpPr/>
          <p:nvPr/>
        </p:nvSpPr>
        <p:spPr>
          <a:xfrm>
            <a:off x="928800" y="271476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 결과를 학생과 부모에게 전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직사각형 21"/>
          <p:cNvSpPr/>
          <p:nvPr/>
        </p:nvSpPr>
        <p:spPr>
          <a:xfrm>
            <a:off x="928800" y="335772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시험 결과를 바탕으로 자신의 교수법에 변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9" name="타원 22"/>
          <p:cNvGrpSpPr/>
          <p:nvPr/>
        </p:nvGrpSpPr>
        <p:grpSpPr>
          <a:xfrm>
            <a:off x="858960" y="3529080"/>
            <a:ext cx="226800" cy="225360"/>
            <a:chOff x="858960" y="3529080"/>
            <a:chExt cx="226800" cy="225360"/>
          </a:xfrm>
        </p:grpSpPr>
        <p:pic>
          <p:nvPicPr>
            <p:cNvPr id="920" name="타원 22" descr=""/>
            <p:cNvPicPr/>
            <p:nvPr/>
          </p:nvPicPr>
          <p:blipFill>
            <a:blip r:embed="rId5"/>
            <a:stretch/>
          </p:blipFill>
          <p:spPr>
            <a:xfrm>
              <a:off x="858960" y="352908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1" name=""/>
            <p:cNvSpPr/>
            <p:nvPr/>
          </p:nvSpPr>
          <p:spPr>
            <a:xfrm rot="10800000">
              <a:off x="942840" y="35841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2" name="타원 25"/>
          <p:cNvGrpSpPr/>
          <p:nvPr/>
        </p:nvGrpSpPr>
        <p:grpSpPr>
          <a:xfrm>
            <a:off x="835200" y="2882880"/>
            <a:ext cx="225360" cy="231840"/>
            <a:chOff x="835200" y="2882880"/>
            <a:chExt cx="225360" cy="231840"/>
          </a:xfrm>
        </p:grpSpPr>
        <p:pic>
          <p:nvPicPr>
            <p:cNvPr id="923" name="타원 25" descr=""/>
            <p:cNvPicPr/>
            <p:nvPr/>
          </p:nvPicPr>
          <p:blipFill>
            <a:blip r:embed="rId6"/>
            <a:stretch/>
          </p:blipFill>
          <p:spPr>
            <a:xfrm>
              <a:off x="835200" y="28828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4" name=""/>
            <p:cNvSpPr/>
            <p:nvPr/>
          </p:nvSpPr>
          <p:spPr>
            <a:xfrm rot="10800000">
              <a:off x="915840" y="294120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5" name="직사각형 23"/>
          <p:cNvSpPr/>
          <p:nvPr/>
        </p:nvSpPr>
        <p:spPr>
          <a:xfrm>
            <a:off x="928800" y="3890880"/>
            <a:ext cx="7669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lt;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 전략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 선택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내용이 수업 내용과 일치하는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들에게 배울 수 있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회를 제공하는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절한 규준집단을 가지고 있는지 확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 준비시키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 실시하기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항상 동일하게 실시하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결과 해석하기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“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 및 학부모와 공유하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6" name="TextBox 9" descr=""/>
          <p:cNvPicPr/>
          <p:nvPr/>
        </p:nvPicPr>
        <p:blipFill>
          <a:blip r:embed="rId1"/>
          <a:stretch/>
        </p:blipFill>
        <p:spPr>
          <a:xfrm>
            <a:off x="3297240" y="506520"/>
            <a:ext cx="5597640" cy="590400"/>
          </a:xfrm>
          <a:prstGeom prst="rect">
            <a:avLst/>
          </a:prstGeom>
          <a:ln w="0">
            <a:noFill/>
          </a:ln>
        </p:spPr>
      </p:pic>
      <p:sp>
        <p:nvSpPr>
          <p:cNvPr id="92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44BAA-B60E-49DB-8189-AEF2200C58DE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2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30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기술 통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3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3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3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8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3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940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94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42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3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빈도분석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몇 명 인지 점수의 분포를 보여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4" name="직사각형 16"/>
          <p:cNvSpPr/>
          <p:nvPr/>
        </p:nvSpPr>
        <p:spPr>
          <a:xfrm>
            <a:off x="928800" y="2571840"/>
            <a:ext cx="778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집중 경향치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한 집단의 전체적인 수행을 양적으로 기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균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중앙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빈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5" name="타원 25"/>
          <p:cNvGrpSpPr/>
          <p:nvPr/>
        </p:nvGrpSpPr>
        <p:grpSpPr>
          <a:xfrm>
            <a:off x="835200" y="2743200"/>
            <a:ext cx="225360" cy="225360"/>
            <a:chOff x="835200" y="2743200"/>
            <a:chExt cx="225360" cy="225360"/>
          </a:xfrm>
        </p:grpSpPr>
        <p:pic>
          <p:nvPicPr>
            <p:cNvPr id="946" name="타원 25" descr=""/>
            <p:cNvPicPr/>
            <p:nvPr/>
          </p:nvPicPr>
          <p:blipFill>
            <a:blip r:embed="rId5"/>
            <a:stretch/>
          </p:blipFill>
          <p:spPr>
            <a:xfrm>
              <a:off x="835200" y="2743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7" name=""/>
            <p:cNvSpPr/>
            <p:nvPr/>
          </p:nvSpPr>
          <p:spPr>
            <a:xfrm rot="10800000">
              <a:off x="915840" y="2798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8" name="직사각형 20"/>
          <p:cNvSpPr/>
          <p:nvPr/>
        </p:nvSpPr>
        <p:spPr>
          <a:xfrm>
            <a:off x="928800" y="4357800"/>
            <a:ext cx="77864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변산도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수들이 얼마나 퍼져 있는지 기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편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vs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분산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9" name="타원 24"/>
          <p:cNvGrpSpPr/>
          <p:nvPr/>
        </p:nvGrpSpPr>
        <p:grpSpPr>
          <a:xfrm>
            <a:off x="858960" y="4529160"/>
            <a:ext cx="226800" cy="225360"/>
            <a:chOff x="858960" y="4529160"/>
            <a:chExt cx="226800" cy="225360"/>
          </a:xfrm>
        </p:grpSpPr>
        <p:pic>
          <p:nvPicPr>
            <p:cNvPr id="950" name="타원 24" descr=""/>
            <p:cNvPicPr/>
            <p:nvPr/>
          </p:nvPicPr>
          <p:blipFill>
            <a:blip r:embed="rId6"/>
            <a:stretch/>
          </p:blipFill>
          <p:spPr>
            <a:xfrm>
              <a:off x="858960" y="452916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1" name=""/>
            <p:cNvSpPr/>
            <p:nvPr/>
          </p:nvSpPr>
          <p:spPr>
            <a:xfrm rot="10800000">
              <a:off x="942840" y="458424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2" name="직사각형 26"/>
          <p:cNvSpPr/>
          <p:nvPr/>
        </p:nvSpPr>
        <p:spPr>
          <a:xfrm>
            <a:off x="928800" y="5786280"/>
            <a:ext cx="778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상분포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균값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=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중앙치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=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빈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좌우 대칭의 종 모양의 분포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3" name="타원 27"/>
          <p:cNvGrpSpPr/>
          <p:nvPr/>
        </p:nvGrpSpPr>
        <p:grpSpPr>
          <a:xfrm>
            <a:off x="858960" y="5937120"/>
            <a:ext cx="226800" cy="225720"/>
            <a:chOff x="858960" y="5937120"/>
            <a:chExt cx="226800" cy="225720"/>
          </a:xfrm>
        </p:grpSpPr>
        <p:pic>
          <p:nvPicPr>
            <p:cNvPr id="954" name="타원 27" descr=""/>
            <p:cNvPicPr/>
            <p:nvPr/>
          </p:nvPicPr>
          <p:blipFill>
            <a:blip r:embed="rId7"/>
            <a:stretch/>
          </p:blipFill>
          <p:spPr>
            <a:xfrm>
              <a:off x="858960" y="5937120"/>
              <a:ext cx="22680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5" name=""/>
            <p:cNvSpPr/>
            <p:nvPr/>
          </p:nvSpPr>
          <p:spPr>
            <a:xfrm rot="10800000">
              <a:off x="942840" y="599400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6" name="TextBox 9" descr=""/>
          <p:cNvPicPr/>
          <p:nvPr/>
        </p:nvPicPr>
        <p:blipFill>
          <a:blip r:embed="rId1"/>
          <a:stretch/>
        </p:blipFill>
        <p:spPr>
          <a:xfrm>
            <a:off x="3297240" y="506520"/>
            <a:ext cx="5597640" cy="590400"/>
          </a:xfrm>
          <a:prstGeom prst="rect">
            <a:avLst/>
          </a:prstGeom>
          <a:ln w="0">
            <a:noFill/>
          </a:ln>
        </p:spPr>
      </p:pic>
      <p:sp>
        <p:nvSpPr>
          <p:cNvPr id="95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7AFF8-4497-4F5A-8DE6-33C3DC746669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5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60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이해 및 해석잏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6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6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6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8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6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970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97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2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3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서로 다른 학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역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나라에 살고 있는 학생들과 비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4" name="직사각형 16"/>
          <p:cNvSpPr/>
          <p:nvPr/>
        </p:nvSpPr>
        <p:spPr>
          <a:xfrm>
            <a:off x="928800" y="257184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원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인이 표준화 검사 혹은 그 하위 검사에서 정확하게 반응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5" name="타원 25"/>
          <p:cNvGrpSpPr/>
          <p:nvPr/>
        </p:nvGrpSpPr>
        <p:grpSpPr>
          <a:xfrm>
            <a:off x="835200" y="2743200"/>
            <a:ext cx="225360" cy="225360"/>
            <a:chOff x="835200" y="2743200"/>
            <a:chExt cx="225360" cy="225360"/>
          </a:xfrm>
        </p:grpSpPr>
        <p:pic>
          <p:nvPicPr>
            <p:cNvPr id="976" name="타원 25" descr=""/>
            <p:cNvPicPr/>
            <p:nvPr/>
          </p:nvPicPr>
          <p:blipFill>
            <a:blip r:embed="rId5"/>
            <a:stretch/>
          </p:blipFill>
          <p:spPr>
            <a:xfrm>
              <a:off x="835200" y="2743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7" name=""/>
            <p:cNvSpPr/>
            <p:nvPr/>
          </p:nvSpPr>
          <p:spPr>
            <a:xfrm rot="10800000">
              <a:off x="915840" y="2798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8" name="직사각형 20"/>
          <p:cNvSpPr/>
          <p:nvPr/>
        </p:nvSpPr>
        <p:spPr>
          <a:xfrm>
            <a:off x="928800" y="314316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백분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인의 검수를 다른 모든 학생들의 점수와 비교하여 나온 등위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9" name="타원 24"/>
          <p:cNvGrpSpPr/>
          <p:nvPr/>
        </p:nvGrpSpPr>
        <p:grpSpPr>
          <a:xfrm>
            <a:off x="858960" y="3316320"/>
            <a:ext cx="226800" cy="225360"/>
            <a:chOff x="858960" y="3316320"/>
            <a:chExt cx="226800" cy="225360"/>
          </a:xfrm>
        </p:grpSpPr>
        <p:pic>
          <p:nvPicPr>
            <p:cNvPr id="980" name="타원 24" descr=""/>
            <p:cNvPicPr/>
            <p:nvPr/>
          </p:nvPicPr>
          <p:blipFill>
            <a:blip r:embed="rId6"/>
            <a:stretch/>
          </p:blipFill>
          <p:spPr>
            <a:xfrm>
              <a:off x="858960" y="331632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1" name=""/>
            <p:cNvSpPr/>
            <p:nvPr/>
          </p:nvSpPr>
          <p:spPr>
            <a:xfrm rot="10800000">
              <a:off x="942840" y="33699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2" name="직사각형 21"/>
          <p:cNvSpPr/>
          <p:nvPr/>
        </p:nvSpPr>
        <p:spPr>
          <a:xfrm>
            <a:off x="928800" y="3676680"/>
            <a:ext cx="77864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화 점수에서 학생이 얼마나 잘했는지 표준편차를 기본단위로 해서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술한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Z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균값으로부터 몇 표준편차 만큼 떨어져 있는지에 관한 점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3" name="타원 22"/>
          <p:cNvGrpSpPr/>
          <p:nvPr/>
        </p:nvGrpSpPr>
        <p:grpSpPr>
          <a:xfrm>
            <a:off x="858960" y="3816360"/>
            <a:ext cx="226800" cy="225360"/>
            <a:chOff x="858960" y="3816360"/>
            <a:chExt cx="226800" cy="225360"/>
          </a:xfrm>
        </p:grpSpPr>
        <p:pic>
          <p:nvPicPr>
            <p:cNvPr id="984" name="타원 22" descr=""/>
            <p:cNvPicPr/>
            <p:nvPr/>
          </p:nvPicPr>
          <p:blipFill>
            <a:blip r:embed="rId7"/>
            <a:stretch/>
          </p:blipFill>
          <p:spPr>
            <a:xfrm>
              <a:off x="858960" y="381636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5" name=""/>
            <p:cNvSpPr/>
            <p:nvPr/>
          </p:nvSpPr>
          <p:spPr>
            <a:xfrm rot="10800000">
              <a:off x="942840" y="387000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6" name="TextBox 9" descr=""/>
          <p:cNvPicPr/>
          <p:nvPr/>
        </p:nvPicPr>
        <p:blipFill>
          <a:blip r:embed="rId1"/>
          <a:stretch/>
        </p:blipFill>
        <p:spPr>
          <a:xfrm>
            <a:off x="4730760" y="506520"/>
            <a:ext cx="4168800" cy="590400"/>
          </a:xfrm>
          <a:prstGeom prst="rect">
            <a:avLst/>
          </a:prstGeom>
          <a:ln w="0">
            <a:noFill/>
          </a:ln>
        </p:spPr>
      </p:pic>
      <p:sp>
        <p:nvSpPr>
          <p:cNvPr id="98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98F18-A4DD-4A76-ACB3-873DEB99821E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8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90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쟁점 사항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9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9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9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9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9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8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9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00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100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2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3" name="직사각형 19"/>
            <p:cNvSpPr/>
            <p:nvPr/>
          </p:nvSpPr>
          <p:spPr>
            <a:xfrm>
              <a:off x="928800" y="1991880"/>
              <a:ext cx="766908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의 다양성과 검사의 편파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검사 내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절차 및 사용의 편파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4" name="타원 25"/>
          <p:cNvGrpSpPr/>
          <p:nvPr/>
        </p:nvGrpSpPr>
        <p:grpSpPr>
          <a:xfrm>
            <a:off x="835200" y="3078000"/>
            <a:ext cx="225360" cy="225720"/>
            <a:chOff x="835200" y="3078000"/>
            <a:chExt cx="225360" cy="225720"/>
          </a:xfrm>
        </p:grpSpPr>
        <p:pic>
          <p:nvPicPr>
            <p:cNvPr id="1005" name="타원 25" descr=""/>
            <p:cNvPicPr/>
            <p:nvPr/>
          </p:nvPicPr>
          <p:blipFill>
            <a:blip r:embed="rId5"/>
            <a:stretch/>
          </p:blipFill>
          <p:spPr>
            <a:xfrm>
              <a:off x="835200" y="3078000"/>
              <a:ext cx="22536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6" name=""/>
            <p:cNvSpPr/>
            <p:nvPr/>
          </p:nvSpPr>
          <p:spPr>
            <a:xfrm rot="10800000">
              <a:off x="915840" y="313704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7" name="직사각형 21"/>
          <p:cNvSpPr/>
          <p:nvPr/>
        </p:nvSpPr>
        <p:spPr>
          <a:xfrm>
            <a:off x="928800" y="2928960"/>
            <a:ext cx="778644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대안적인 평가를 고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급 관찰 및 기타 사항을 고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목표와 기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미리 정한 교육목표 측정에 대한 동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시간이 많이 걸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타당도의 문제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03T23:57:37Z</dcterms:modified>
  <cp:revision>375</cp:revision>
  <dc:subject/>
  <dc:title>PowerPoint Template</dc:title>
</cp:coreProperties>
</file>